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683-0946-47AC-ADB2-5EE1BCBC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359-BD31-4E75-8FDF-23A1BF6E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0A2-B6E0-4EA0-8001-996A7A02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4E6-7DE9-4FEC-97E0-B883DD2B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B15-ED88-4282-8627-FA39545A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90E-998A-4CAA-8F1E-DC2029FD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A45-DD2A-4C5B-BF28-DBAA20D2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B38-54D2-4645-ADAE-EBA7132D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74A-54F2-41C5-BA05-1888284D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D02-265E-47E3-B366-357F403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251-0EB8-40CB-8207-47A756ED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605-4EE1-48D3-8CE0-21E1B6A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FF61-E6AD-4C20-90D5-BDEB06BE9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62320" y="457200"/>
            <a:ext cx="3657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2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ur school</a:t>
            </a:r>
            <a:endParaRPr b="0" lang="en-US" sz="5400" spc="1" strike="noStrike">
              <a:ln w="324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324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</a:t>
            </a:r>
            <a:endParaRPr b="0" lang="en-US" sz="5400" spc="1" strike="noStrike">
              <a:ln w="324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5357880"/>
            <a:ext cx="47530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y conno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200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67080" y="457200"/>
            <a:ext cx="2895840" cy="9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 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  Robiso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71600"/>
            <a:ext cx="25527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ur tech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10240" y="1523880"/>
            <a:ext cx="1722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nd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Scho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enbo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4:08Z</dcterms:created>
  <dc:creator>Glenboi</dc:creator>
  <dc:description/>
  <dc:language>en-US</dc:language>
  <cp:lastModifiedBy>Glenboi</cp:lastModifiedBy>
  <dcterms:modified xsi:type="dcterms:W3CDTF">2009-09-30T09:04:44Z</dcterms:modified>
  <cp:revision>1</cp:revision>
  <dc:subject/>
  <dc:title>PowerPoint Presentation</dc:title>
</cp:coreProperties>
</file>